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FED0E3-F3F4-4E27-A3E3-11796D4027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8FE39-98F1-401A-AB21-CB0588621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5A7DA4-49F9-481A-8DAA-65911790A9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9C9298-5A8C-41EF-BECF-C46D567F1F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1D65A-20DD-4EFF-A2D3-A372C6F61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FED66-6B13-462E-BF78-72E8BA574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6A9FF-B194-4CEB-B818-C7922AA00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5B695-4640-41AC-99FD-3E535B427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83600-7BD6-4C17-B421-D36CB8D16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D9E61-F69C-4537-9651-135BE572C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626A2-8722-46A6-A34B-5073AD64E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B16C0-1EA8-4DBB-8CC4-31273BF670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3CB1B-1134-4657-90E5-0E10B70F8C3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ding states in  Africa</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hapter 1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book pg 98</a:t>
            </a:r>
            <a:endParaRPr b="0" lang="en-US" sz="4400" spc="-1" strike="noStrike">
              <a:solidFill>
                <a:srgbClr val="000000"/>
              </a:solidFill>
              <a:latin typeface="Calibri"/>
            </a:endParaRPr>
          </a:p>
        </p:txBody>
      </p:sp>
      <p:sp>
        <p:nvSpPr>
          <p:cNvPr id="60" name=""/>
          <p:cNvSpPr txBox="1"/>
          <p:nvPr/>
        </p:nvSpPr>
        <p:spPr>
          <a:xfrm>
            <a:off x="457200" y="1599840"/>
            <a:ext cx="830592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r>
              <a:rPr b="0" lang="en-US" sz="2800" spc="-1" strike="noStrike">
                <a:solidFill>
                  <a:srgbClr val="000000"/>
                </a:solidFill>
                <a:latin typeface="Calibri"/>
              </a:rPr>
              <a:t>. Sahara- largest desert in the world, shapes Africa = not as many ppl live here b.c. of desert</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Savannahs- grassy plains w. vegetation = most populous region</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Cataracts- hindered movement throughout Africa, acted as barriers</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 </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Minerals (salt, gold, copper ,iron) showed wealth &amp; power = trade increased</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Camels could travel long distances w.o water &amp; could carry heavy loads = trade increas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vannah</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Africa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grassy plains, Africa’s largest &amp; most populated reg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Central &amp; South Afric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730 BC- pres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moving north &amp; south throughout Africa, this is the continent’s most populated region b.c. of all the veget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aract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Africa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waterfalls on high platea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Afric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730 BC- pres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these hindered easy movement throughout the continent b.c. they were difficult to cross = limits trave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book pg 98</a:t>
            </a:r>
            <a:endParaRPr b="0" lang="en-US" sz="4400" spc="-1" strike="noStrike">
              <a:solidFill>
                <a:srgbClr val="000000"/>
              </a:solidFill>
              <a:latin typeface="Calibri"/>
            </a:endParaRPr>
          </a:p>
        </p:txBody>
      </p:sp>
      <p:sp>
        <p:nvSpPr>
          <p:cNvPr id="68" name=""/>
          <p:cNvSpPr txBox="1"/>
          <p:nvPr/>
        </p:nvSpPr>
        <p:spPr>
          <a:xfrm>
            <a:off x="456840" y="1600200"/>
            <a:ext cx="8381880" cy="4952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eographic pattern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hara- desert region in the North (not a lot of ppl live here); Savannahs- most populated due to a lot of vegetation = foo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taracts, (waterfalls)- restrict people from moving about the continent</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 Resources spur trade</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 Salt, gold, iron &amp; copper were valuable = great wealth &amp; power = trade throughout Africa</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 Camels allowed more trade through the desert b.c. they were able to carry heavy loads &amp; go long times w.o water= trade increased through the Sahara</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ertification</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o: African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a climate change that slowly dried out the Sahara, cropland &amp; pastureland are devoured/destroy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re: Northern Africa, Sahara dese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n: 2500 B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y: as the land became parched, the desert spread; the desertification led to migration b.c. ppl had to find new areas to live in that maintained their way of life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I. Part A.</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Hunters &amp; gatherers settled down &amp; learned to cultivate the Nile Valley &amp; domesticate animal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Sahara used to be covered with rich grasslands &amp; savannah = ppl lived here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Desertification- dried out vegetation = ppl migrated (leav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 Ppl leave to find new areas that maintain their ways of lif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I. Part B</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People migrated all throughout Africa = diverse cultures/languages- root language = Bant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The Bantu spread their skills/language &amp; merge with other groups; still there toda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ntu</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o: African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the root language of the African languag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re: Africa, W. Afric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n: 1000BC- presen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y: gives the movement “Bantu migrations” its’ name; Bantu-speakers spread their skills of farming, iron working, &amp; domesticating animals; other existing cultures merged w. Bantu; their influence is still in the languages of that region toda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bia</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Egyptians, Nubian, Northeast Africa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ncient kingdom called Kush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Egypt, northeast Africa, on the Nil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2700 B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this kingdom was flourishing, trade led to contact b/n Nubia &amp; Egypt; Nubia was under Egyptian control &amp; remained that way for about 500 years = Nubia adopted several Egyptian tradi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ly civilizations of Africa </a:t>
            </a:r>
            <a:endParaRPr b="0" lang="en-US" sz="4400" spc="-1" strike="noStrike">
              <a:solidFill>
                <a:srgbClr val="000000"/>
              </a:solidFill>
              <a:latin typeface="Calibri"/>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ection 1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roe</a:t>
            </a:r>
            <a:endParaRPr b="0" lang="en-US" sz="4400" spc="-1" strike="noStrike">
              <a:solidFill>
                <a:srgbClr val="000000"/>
              </a:solidFill>
              <a:latin typeface="Calibri"/>
            </a:endParaRPr>
          </a:p>
        </p:txBody>
      </p:sp>
      <p:pic>
        <p:nvPicPr>
          <p:cNvPr id="8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ingdoms of West Africa</a:t>
            </a:r>
            <a:endParaRPr b="0" lang="en-US" sz="4400" spc="-1" strike="noStrike">
              <a:solidFill>
                <a:srgbClr val="000000"/>
              </a:solidFill>
              <a:latin typeface="Calibri"/>
            </a:endParaRPr>
          </a:p>
        </p:txBody>
      </p:sp>
      <p:sp>
        <p:nvSpPr>
          <p:cNvPr id="8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ection 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rplus</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African Farming Villag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Extra Resources for more than was need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Afric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100 A.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Development of trade allowed the villages to keep more resources. They began to trade their food surplus for products from other villages. This led to an increase in trad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odity</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o: African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Valuable produc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re: Afric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n: 730 B.C.-1591 A.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y: People needed salt in their diet, especially in hot tropical areas to replace the salt lost from perspiration. Salt was important for the use of food and preservation. The Sahara had an abundance of salt. The Savannah didn’t have enough salt=commodity for them=Trad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K sheet #2</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use=Salt is needed for diet and food preserv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lt is a commodity esp. for the Savanna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ffect=Trade, the Savannah doesn’t have enough=willing to trade gold for sal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hana</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Africans, Soninke peop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t’s a kingdom from many united farming vill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West Afric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800 A.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ndiata</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Sundiata, ruler of Mal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sickly boy regarded as too weak to be a threat, crushed his enemies &amp; created the kingdom of Mal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Egypt/Mal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1235-1255</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he crushed his enemies, ran control of the gold trade routes in Africa, &amp; founded the empire of Mal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li</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Sundiat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empire, gold trade route was he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W. Afric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1235-1450</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Gold trade routes &amp; salt supplies  expanded here; caravan routes made small towns into great trading cities = many people wanted to live here = freedom of religion &amp; toler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sa Musa</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o: greatest ruler of the kingdom of Mali</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at: greatest ruler of Mali who improved it; converted to Islam</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ere: Mali, West Afric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en: 1312-1337</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y: expanded Mali’s borders west to Atlantic ocean &amp; north; ensured peace &amp; order in his empire; converted to Islam = based system of justice on Quran; promoted religious freedom &amp; tolerance; created alliances w. other Muslim states; brought back Muslim scholars to promote Islamic education in Mali = a lot of West Africa is Islamic today</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nghai</a:t>
            </a:r>
            <a:endParaRPr b="0" lang="en-US" sz="4400" spc="-1" strike="noStrike">
              <a:solidFill>
                <a:srgbClr val="000000"/>
              </a:solidFill>
              <a:latin typeface="Calibri"/>
            </a:endParaRPr>
          </a:p>
        </p:txBody>
      </p:sp>
      <p:sp>
        <p:nvSpPr>
          <p:cNvPr id="98" name=""/>
          <p:cNvSpPr txBox="1"/>
          <p:nvPr/>
        </p:nvSpPr>
        <p:spPr>
          <a:xfrm>
            <a:off x="152280" y="1219320"/>
            <a:ext cx="8686800" cy="533376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o: Sunni Ali, Askia Muhammad</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at: a new Muslim kingdom in West Africa as Mali was weakening, capital= Goa</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ere: present-day Mali &amp; Niger, W. Africa</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en: 1464-</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y: </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nni Ali (at the height) made trade routes (gold &amp; salt) &amp; wealthy cities; professional army protected the empire; provincial governors presided over local states;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kia: efficient bureaucracy w. separate departments for farming, military, &amp; treasury; disputes over Askia’s leadership after he died = changes in leadership = civil war &amp; unres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roccan invaders used gunpowder to take ov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hara</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Africa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the largest desert in the world, a geographic feature in the great variety of African landscap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Northern Afric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730 BC- pres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this desert plays a major role in the development of Africa &amp; it’s trading kingdoms that develop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ingdoms &amp; trading states of EastAfrica</a:t>
            </a:r>
            <a:endParaRPr b="0" lang="en-US" sz="4400" spc="-1" strike="noStrike">
              <a:solidFill>
                <a:srgbClr val="000000"/>
              </a:solidFill>
              <a:latin typeface="Calibri"/>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ection 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xum</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African farm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 kingdom in present day Eritrea, center of goods &amp; ideas (trade)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East Afric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100BC-600s A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the merging of culture and peoples of Axum gave way to the language of Geez; this kingdom gained control of the Red Sea; trade here led the kingdom to profi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ulis</a:t>
            </a:r>
            <a:endParaRPr b="0" lang="en-US" sz="4400" spc="-1" strike="noStrike">
              <a:solidFill>
                <a:srgbClr val="000000"/>
              </a:solidFill>
              <a:latin typeface="Calibri"/>
            </a:endParaRPr>
          </a:p>
        </p:txBody>
      </p:sp>
      <p:sp>
        <p:nvSpPr>
          <p:cNvPr id="104" name=""/>
          <p:cNvSpPr txBox="1"/>
          <p:nvPr/>
        </p:nvSpPr>
        <p:spPr>
          <a:xfrm>
            <a:off x="457200" y="1599840"/>
            <a:ext cx="8305920" cy="4876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Axumites</a:t>
            </a: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capital city of Axum, port city </a:t>
            </a: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Axum, near the Red Sea</a:t>
            </a: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400 AD</a:t>
            </a: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this capital commanded triangular trade that connected Africa, India, &amp; the Mediterranean world; a lot of goods passed through here- from the center of Africa out, and from out of Africa into Africa; trade = wealt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ksheet- Axum</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ristianity brought to reg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ulis becomes wealth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rging of cultures led to a new language called Geez</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thiopia</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o: Axumite kings, Ethiopian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a kingdom that was a portion of Axum’s empire, protected by rugged mountain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re: Red Sea, East Africa,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n: 400 AD- presen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y: Ethiopia was known for it’s large Christian church population; they absorbed many local customs like traditional music; their influence is still in Ethiopian church services today &amp; they are still said in Geez</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thiopia- Worksheet</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thiopia had a distinct Christian culture w. Christian churches, traditional music, &amp; language Geez; unified their sense of identit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ing Lalibela</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o: King of Ethiopi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he directed the building of 11 remarkable churches in Ethiopia during his reig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re: Ethiopia, East Afric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n:1200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y: these 11 churches still exist there today &amp; they illustrate the architectural and artistic skill of the Ethiopian craftsmen of the time; he helped to create Ethiopia’s distinct culture of the tim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astal City States- Wksheet</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Swahili language is develop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Asian traders and immigrants as far away as Indonesia traveled here and added to the mix of peoples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wahili</a:t>
            </a:r>
            <a:endParaRPr b="0" lang="en-US"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 new vibrant culture and langu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East Afric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1000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international trade system = many ppl mixing &amp; trading = adopt each other’s culture &amp; language = mixing = Swahili (new langua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eat Zimbabwe</a:t>
            </a:r>
            <a:endParaRPr b="0" lang="en-US" sz="4400" spc="-1" strike="noStrike">
              <a:solidFill>
                <a:srgbClr val="000000"/>
              </a:solidFill>
              <a:latin typeface="Calibri"/>
            </a:endParaRPr>
          </a:p>
        </p:txBody>
      </p:sp>
      <p:sp>
        <p:nvSpPr>
          <p:cNvPr id="118" name=""/>
          <p:cNvSpPr txBox="1"/>
          <p:nvPr/>
        </p:nvSpPr>
        <p:spPr>
          <a:xfrm>
            <a:off x="456840" y="1600200"/>
            <a:ext cx="8381880" cy="49528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o: Bantu peoples, ,Portugues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at: ruins of Bantu peoples, a great inland empire; means “stone hous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ere: East Africa</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en:</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y: built by Bantus in 900-1500 Zimbabwe was a great trade city and in decline when Portuguese traders pushed through to find more gold mines; the capital reached its’ height around 1300 b.c. of the trade network that reached across the Indian Ocean; there was an effective bureaucracy under a God-king; in 1500, Zim fell b.c. there was too high a population &amp;civil war</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hara (6)</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Africa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the largest desert in the world; just one geographic feature in the great variety of African lan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North Afric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730 BC- pres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the geographic features of this area played a major role in the development of Afr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hara (7)</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Africa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largest desert in the world; just one of the many geographic features of Afric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Northern Afric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730 BC- pres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this desert played a major role in the development of N. Africa = desert = not a lot of vegetation = lower population; trade routes went through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vannahs (6)</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Africa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grassy plains, make up the continent’s largest &amp; most populated region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Central &amp; South Afric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730 BC- pres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this area had the most vegetation = food = larger population; this geographic region affected how/where ppl liv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vannas (7) </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Africa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grassy plains, the continent’s largest &amp; most populated reg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Central &amp; South Afric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730 BC- pres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these grassy plains had a lot of vegetation = food = people = most populous regions of Afric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aracts (6)</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Africa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waterfalls on high plateau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Afric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730 BC- pres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these hindered easy movement from place to place in Africa, acted as barriers = travel from place to place was har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aracts (7)</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Africa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waterfalls that hindered movement throughout Afric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high plateaus of Afric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730 BC- pres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these served as barriers to trade= they hindered easy movement of ppls from place to pla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2T15:01:08Z</dcterms:created>
  <dc:creator>Windows User</dc:creator>
  <dc:description/>
  <dc:language>en-US</dc:language>
  <cp:lastModifiedBy>Windows User</cp:lastModifiedBy>
  <dcterms:modified xsi:type="dcterms:W3CDTF">2012-10-29T21:12:43Z</dcterms:modified>
  <cp:revision>29</cp:revision>
  <dc:subject/>
  <dc:title>Trading states in  Africa</dc:title>
</cp:coreProperties>
</file>